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DE0-FD73-4433-84A1-82E09CA33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A42-0597-4737-AC3F-53ACB16D9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E15C-A87B-4676-92DC-02C8CBC47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6C0C-12F2-4A42-90CA-ADDA4F937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147D-5BF7-453B-9BAA-A4F8097EF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B97-169C-483B-8652-13E17C27F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A95D-E983-4B74-94B7-4EE7EC52A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4011-4CD7-4C5C-BB80-BB5A3BB9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FDCD-5F93-4862-94FF-E03C690D7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D026-8F9A-45D1-8EE6-A3D2CF07B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D799-05C2-4BC9-9731-4B893D3CB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35A3-7807-4E89-80A5-67F437F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491C-16B8-4E42-9D02-DE78180290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5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22200"/>
            <a:ext cx="9144000" cy="62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426960"/>
            <a:ext cx="914400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60360"/>
            <a:ext cx="914400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17440"/>
            <a:ext cx="9144000" cy="642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507960"/>
            <a:ext cx="91440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7520" y="450720"/>
            <a:ext cx="90489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4648320" cy="3143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638600" y="1700280"/>
            <a:ext cx="4505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588960"/>
            <a:ext cx="9144000" cy="56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-304920" y="331920"/>
            <a:ext cx="975384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198360"/>
            <a:ext cx="9144000" cy="64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23184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714920" cy="3076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572000" cy="30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1773360"/>
            <a:ext cx="4714920" cy="30477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427640" y="1773360"/>
            <a:ext cx="450540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41280" y="476280"/>
            <a:ext cx="8802720" cy="55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-14400" y="331920"/>
            <a:ext cx="9172800" cy="62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31284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4295880" cy="62676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4427640" y="260280"/>
            <a:ext cx="4248000" cy="62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610160" cy="33814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14760" y="1700280"/>
            <a:ext cx="4629240" cy="31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208080"/>
            <a:ext cx="9144000" cy="64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-4680" y="293760"/>
            <a:ext cx="915336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1T08:59:29Z</dcterms:created>
  <dc:creator>UB</dc:creator>
  <dc:description/>
  <dc:language>en-US</dc:language>
  <cp:lastModifiedBy>UB</cp:lastModifiedBy>
  <dcterms:modified xsi:type="dcterms:W3CDTF">2007-06-01T10:17:39Z</dcterms:modified>
  <cp:revision>3</cp:revision>
  <dc:subject/>
  <dc:title>Diapositiva 1</dc:title>
</cp:coreProperties>
</file>